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D62-433F-4C37-8AF1-5EC3BC95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8D8-8AAB-4747-B6BF-27F896A0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22D-E239-4C77-B097-CB962429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1E1-216F-466F-9DB2-2AFBB01D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6BE-7139-49A9-B54F-452599E6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75F-F7E1-4A35-B496-0A011114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EB1-5D7F-48CE-A135-0ED7D61E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3AC-74AB-4A18-9C10-3320C678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E19-2335-4CE7-8A67-06398E29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7C7-93E2-498E-80FA-5F8E058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7A4-E181-4A57-8917-BF84D21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CC6-A512-4F1C-84CF-32667D2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859C-D21B-4EF9-AED5-EEFDE36D2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27:01Z</dcterms:created>
  <dc:creator>Grupo Editorial</dc:creator>
  <dc:description/>
  <dc:language>en-US</dc:language>
  <cp:lastModifiedBy>Grupo Editorial</cp:lastModifiedBy>
  <dcterms:modified xsi:type="dcterms:W3CDTF">2001-11-20T15:30:31Z</dcterms:modified>
  <cp:revision>1</cp:revision>
  <dc:subject/>
  <dc:title>Sin título de diapositiva</dc:title>
</cp:coreProperties>
</file>